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D279-D2BC-4830-876F-680C8EEB6DBD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6C1-715F-4C8C-8924-CC4FD9001DFA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083-F022-4BD5-BBA1-97BF1174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BD7-EB10-4AD0-AD45-3240BD5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43F-8CC2-4F1A-9740-3EAD51FF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58A-DD98-4ADD-B8BF-A0A81A7F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4F8-C52F-406A-98EF-BFC62C81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8F1-FF0B-41C7-AC94-205224A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167-A779-4F09-986F-3BF8D959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938-25AA-40D6-8210-2206369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E85-9C56-4DF5-A78F-CAAB6C4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832-2E14-46D8-B413-0D71EF1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0C7-631F-45C2-B1BA-2ABBAC2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496-BE6E-4361-A12C-0D81343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4F88-7FDE-44FC-B509-EC8E33F81D64}" type="slidenum">
              <a:rPr b="0" lang="pt-BR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Bernard MT Condensed"/>
              </a:rPr>
              <a:t>AUDIÊNCIA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98989"/>
                </a:solidFill>
                <a:latin typeface="Bernard MT Condensed"/>
              </a:rPr>
              <a:t>LDO 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entro Administrativo"/>
          <p:cNvPicPr/>
          <p:nvPr/>
        </p:nvPicPr>
        <p:blipFill>
          <a:blip r:embed="rId2"/>
          <a:stretch/>
        </p:blipFill>
        <p:spPr>
          <a:xfrm>
            <a:off x="468360" y="3716280"/>
            <a:ext cx="82803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500"/>
            </a:b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OTAL GERAL DAS MET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$  11.684.699,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 u="sng">
                <a:solidFill>
                  <a:srgbClr val="000000"/>
                </a:solidFill>
                <a:uFillTx/>
                <a:latin typeface="Calibri"/>
              </a:rPr>
              <a:t>OBRIGAD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9" descr="BOZANO"/>
          <p:cNvPicPr/>
          <p:nvPr/>
        </p:nvPicPr>
        <p:blipFill>
          <a:blip r:embed="rId1"/>
          <a:stretch/>
        </p:blipFill>
        <p:spPr>
          <a:xfrm>
            <a:off x="826920" y="3321000"/>
            <a:ext cx="7682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13000"/>
          <a:ext cx="9299520" cy="4176720"/>
        </p:xfrm>
        <a:graphic>
          <a:graphicData uri="http://schemas.openxmlformats.org/drawingml/2006/table">
            <a:tbl>
              <a:tblPr/>
              <a:tblGrid>
                <a:gridCol w="2894040"/>
                <a:gridCol w="911160"/>
                <a:gridCol w="895320"/>
                <a:gridCol w="701640"/>
                <a:gridCol w="787680"/>
                <a:gridCol w="855360"/>
                <a:gridCol w="819360"/>
                <a:gridCol w="477720"/>
                <a:gridCol w="477720"/>
                <a:gridCol w="479520"/>
              </a:tblGrid>
              <a:tr h="40932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ELA  01 - Parâmentos Utilizados nas Estimativas das Receitas e Despes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dicad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ÇÃO MÉDIA ANUAL   (I P C A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ÇÃODO PIB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6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IMENTO VEGETATIVO DA FOLHA SALAR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IMENTO AUTÔNOMO DE OUTROS CUSTEI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ORÇO NA ARRECADAÇÃO TRIBUTÁ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.REAL DAS TRANSFER CORR DA UNI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.REAL DAS TRANSFER CORR DO EST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 DE AUMENTO SALARIAL - EXECUT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 DE AUMENTO SALARIAL - LEGISL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SCIMENTO DOS INVESTIMENTO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,6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7,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6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,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a de Juros Selic (Média do An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B / RS (em R$ milhõe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09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449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366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.55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.885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.00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to 4"/>
          <p:cNvGraphicFramePr/>
          <p:nvPr/>
        </p:nvGraphicFramePr>
        <p:xfrm>
          <a:off x="250920" y="1628640"/>
          <a:ext cx="871380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t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7138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to 3"/>
          <p:cNvGraphicFramePr/>
          <p:nvPr/>
        </p:nvGraphicFramePr>
        <p:xfrm>
          <a:off x="250920" y="1989000"/>
          <a:ext cx="86421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86421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to 3"/>
          <p:cNvGraphicFramePr/>
          <p:nvPr/>
        </p:nvGraphicFramePr>
        <p:xfrm>
          <a:off x="250920" y="260280"/>
          <a:ext cx="8785080" cy="60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7850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2920" y="1988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Calibri"/>
              </a:rPr>
              <a:t>Receita Total Estimada para 2018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$ 11.985.899,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to 4"/>
          <p:cNvGraphicFramePr/>
          <p:nvPr/>
        </p:nvGraphicFramePr>
        <p:xfrm>
          <a:off x="971640" y="2349360"/>
          <a:ext cx="72007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t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200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aixaDeTexto 6"/>
          <p:cNvSpPr/>
          <p:nvPr/>
        </p:nvSpPr>
        <p:spPr>
          <a:xfrm>
            <a:off x="2649960" y="187020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PESAS POR PROGRAMAS - 201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to 3"/>
          <p:cNvGraphicFramePr/>
          <p:nvPr/>
        </p:nvGraphicFramePr>
        <p:xfrm>
          <a:off x="900000" y="2060640"/>
          <a:ext cx="70567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7056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ixaDeTexto 6"/>
          <p:cNvSpPr/>
          <p:nvPr/>
        </p:nvSpPr>
        <p:spPr>
          <a:xfrm>
            <a:off x="2433240" y="166068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PESAS POR PROGRAMAS - 201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to 3"/>
          <p:cNvGraphicFramePr/>
          <p:nvPr/>
        </p:nvGraphicFramePr>
        <p:xfrm>
          <a:off x="1042920" y="2421000"/>
          <a:ext cx="720108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1000"/>
                    <a:ext cx="7201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CaixaDeTexto 4"/>
          <p:cNvSpPr/>
          <p:nvPr/>
        </p:nvSpPr>
        <p:spPr>
          <a:xfrm>
            <a:off x="2577600" y="189216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PESAS POR PROGRAMAS - 201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UNICÍPIO DE BOZAN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LEI DE DIRETRIZES ORÇAMENTÁRIAS – LDO  EXERCÍCIO DE 2018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9:43:59Z</dcterms:created>
  <dc:creator>Administrador</dc:creator>
  <dc:description/>
  <dc:language>en-US</dc:language>
  <cp:lastModifiedBy>usuario</cp:lastModifiedBy>
  <dcterms:modified xsi:type="dcterms:W3CDTF">2017-09-29T11:41:32Z</dcterms:modified>
  <cp:revision>210</cp:revision>
  <dc:subject/>
  <dc:title>AUDIÊNCIA PÚBLICA</dc:title>
</cp:coreProperties>
</file>